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5BD-A1A1-4C04-BCFF-4C437D30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5CE-04DB-4E36-AEC2-64094387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D0FC-21AC-49B3-AE76-0BD3E08F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96B-F3E3-4649-BFC6-5EAAF17D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E96A-5111-433B-B80A-B5DE7620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E914-E617-462E-8B4A-C900D502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88F-01CA-4972-990C-878519E2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D9C-DAF6-42C0-AE53-DFB2E8A7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63D-B2E1-4D82-AF78-CA82B295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E90B-EB22-4EAC-90AF-D1704422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24D-A9D9-4D89-A852-B2D93247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9D4-32DB-4468-9643-1B06E0AB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23A0-1804-4967-A4FB-FB4F9429F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thebasketballblogger.com/wp-content/uploads/2009/09/Kobe-vs.-Carmelo.jpg&amp;imgrefurl=http://thebasketballblogger.com/%3Fp%3D1624&amp;h=390&amp;w=594&amp;sz=93&amp;tbnid=RNzxnuE-qoX_-M:&amp;tbnh=89&amp;tbnw=135&amp;prev=/images%3Fq%3Dpic%2Bof%2Bkobe%2Band%2Bcarmelo&amp;usg=__Wn6PV5sSuIIZheqvRNq2vI-n_a4=&amp;ei=1IEOS_KLBo7uMtTszfIM&amp;sa=X&amp;oi=image_result&amp;resnum=2&amp;ct=image&amp;ved=0CA0Q9QEwAQ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plslaker.files.wordpress.com/2009/05/kobe-carmelo-fullj_getty-71797700lb008_denver_nugget_3_48_36_am.jpg&amp;imgrefurl=http://mplslaker.wordpress.com/2009/05/20/lakers-nuggets-game-1-in-one-hour/&amp;h=500&amp;w=640&amp;sz=38&amp;tbnid=9DtEbvpmHJRXpM:&amp;tbnh=107&amp;tbnw=137&amp;prev=/images%3Fq%3Dpic%2Bof%2Bkobe%2Band%2Bcarmelo&amp;hl=en&amp;usg=__Nswzt8M9-GTOTIDeFSfPk77y1bg=&amp;ei=B4UOS-fNLo7uMtTszfIM&amp;sa=X&amp;oi=image_result&amp;resnum=1&amp;ct=image&amp;ved=0CA0Q9QEwAA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4.pictures.gi.zimbio.com/Los%2BAngeles%2BLakers%2Bv%2BDenver%2BNuggets%2BGame%2BFour%2B-x4-3eNQn1Fl.jpg&amp;imgrefurl=http://www.zimbio.com/pictures/toVCEsTMW8s/Los%2BAngeles%2BLakers%2Bv%2BDenver%2BNuggets%2BGame%2BFour/-x4-3eNQn1F/Carmelo%2BAnthony&amp;h=390&amp;w=594&amp;sz=102&amp;tbnid=AdsuwMippsJAcM:&amp;tbnh=89&amp;tbnw=135&amp;prev=/images%3Fq%3Dpic%2Bof%2Bkobe%2Band%2Bcarmelo&amp;hl=en&amp;usg=__JzUoah2gXChnC1mCzMsFWEQJOU8=&amp;ei=B4UOS-fNLo7uMtTszfIM&amp;sa=X&amp;oi=image_result&amp;resnum=4&amp;ct=image&amp;ved=0CBMQ9QEwAw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comps.fotosearch.com/comp/BLD/BLD003/teenage-girl-basketball_~ar061404026.jpg&amp;imgrefurl=http://www.fotosearch.com/BLD003/ar061404026/&amp;h=320&amp;w=300&amp;sz=35&amp;tbnid=FO3pwguL84AEJM:&amp;tbnh=118&amp;tbnw=111&amp;prev=/images%3Fq%3Dpic%2Bof%2B%2Bgirl%2Bbasketball%2Bplayer&amp;hl=en&amp;usg=__cY15VJcqFTm6TcYOPXD3ohPhL9A=&amp;ei=GIgOS96AJY7uMtTszfIM&amp;sa=X&amp;oi=image_result&amp;resnum=4&amp;ct=image&amp;ved=0CBIQ9QEwAw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google.com/images?q=tbn:RNzxnuE-qoX_-M::thebasketballblogger.com/wp-content/uploads/2009/09/Kobe-vs.-Carmelo.jpg&amp;h=94&amp;w=143&amp;usg=__npUC5rqgDTxN5AXjlmW-uF4AqAw=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143000"/>
            <a:ext cx="6375240" cy="4191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By Cameron Hart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B-Balls a great s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enemies h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http://www.google.com/images?q=tbn:9DtEbvpmHJRXpM::mplslaker.files.wordpress.com/2009/05/kobe-carmelo-fullj_getty-71797700lb008_denver_nugget_3_48_36_am.jpg&amp;h=94&amp;w=120&amp;usg=__fc2GNX0in14FA6F30ZGVO3gePMw=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971800"/>
            <a:ext cx="3778200" cy="2959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B-Balls fun to play and wa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never gets 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://www.google.com/images?q=tbn:AdsuwMippsJAcM::www4.pictures.gi.zimbio.com/Los%252BAngeles%252BLakers%252Bv%252BDenver%252BNuggets%252BGame%252BFour%252B-x4-3eNQn1Fl.jpg&amp;h=94&amp;w=143&amp;usg=__dv_mRgbt8boqOt-mOR2clSaIjGU=">
            <a:hlinkClick r:id="rId1"/>
          </p:cNvPr>
          <p:cNvPicPr/>
          <p:nvPr/>
        </p:nvPicPr>
        <p:blipFill>
          <a:blip r:embed="rId2"/>
          <a:stretch/>
        </p:blipFill>
        <p:spPr>
          <a:xfrm rot="20718000">
            <a:off x="2665080" y="2277720"/>
            <a:ext cx="4521240" cy="297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f81bd"/>
                </a:solidFill>
                <a:latin typeface="Calibri"/>
              </a:rPr>
              <a:t>Its gre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Calibri"/>
              </a:rPr>
              <a:t>For boys and gir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google.com/images?q=tbn:FO3pwguL84AEJM::comps.fotosearch.com/comp/BLD/BLD003/teenage-girl-basketball_~ar061404026.jpg&amp;h=94&amp;w=88&amp;usg=__mIqO0AvWkbGt9VvGJWmhgT_4x04=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3200400"/>
            <a:ext cx="206856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google.com/images?q=tbn:OQt3Is-JNOS0RM::ricktrotter.files.wordpress.com/2009/06/kryptonate-nate-robinson-green-shoes-nike-foamposite-lite.jpg&amp;h=94&amp;w=132&amp;usg=__hmP4Bcao1ZyiSxV0OJVDfz-tRAk="/>
          <p:cNvPicPr/>
          <p:nvPr/>
        </p:nvPicPr>
        <p:blipFill>
          <a:blip r:embed="rId3"/>
          <a:stretch/>
        </p:blipFill>
        <p:spPr>
          <a:xfrm>
            <a:off x="1143000" y="2819520"/>
            <a:ext cx="3103560" cy="2209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3:22:01Z</dcterms:created>
  <dc:creator>BPS</dc:creator>
  <dc:description/>
  <dc:language>en-US</dc:language>
  <cp:lastModifiedBy>BPS</cp:lastModifiedBy>
  <dcterms:modified xsi:type="dcterms:W3CDTF">2009-11-26T14:05:12Z</dcterms:modified>
  <cp:revision>5</cp:revision>
  <dc:subject/>
  <dc:title>BASKETBALL</dc:title>
</cp:coreProperties>
</file>